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3DF-9FA2-4A53-9D3B-96A69026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091-27CD-4769-9321-F5DB5022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A7F-3D63-4DB4-AE03-0520074D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C32-11C9-4F08-A4BE-61E911D8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703-376E-479E-AA9C-BA0EA4F6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3E09-A832-47FC-88A9-7C7BCFEC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E49-6879-4D92-BFC4-B7C7D85C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BE79-753E-4AF2-A9F8-47BDCC8A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19F-11AB-419E-B108-03B5CBF9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7E5-123C-423D-AE5A-F7F5EDD8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12A-8215-4C54-BFAE-F0F4C8CE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B36-22ED-4132-B25C-45E426CE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8305-7D3D-4AF2-987E-2C78EC5C68ED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E7FA-1734-4F52-BECC-149AA62B36C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62520" y="4419720"/>
            <a:ext cx="2286000" cy="838080"/>
          </a:xfrm>
          <a:prstGeom prst="wedgeRoundRectCallout">
            <a:avLst>
              <a:gd name="adj1" fmla="val -74166"/>
              <a:gd name="adj2" fmla="val -79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rms have different financial reporting obligations from companies, so data is not always compar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600200"/>
            <a:ext cx="2286000" cy="838080"/>
          </a:xfrm>
          <a:prstGeom prst="wedgeRoundRectCallout">
            <a:avLst>
              <a:gd name="adj1" fmla="val 1805"/>
              <a:gd name="adj2" fmla="val 12556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written supplementary guidance to CMEF as was provided for GVA would be help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600200"/>
            <a:ext cx="2286000" cy="838080"/>
          </a:xfrm>
          <a:prstGeom prst="wedgeRoundRectCallout">
            <a:avLst>
              <a:gd name="adj1" fmla="val -16875"/>
              <a:gd name="adj2" fmla="val 10643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national statistics are showing different numbers compared to Eurostat.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4343400"/>
            <a:ext cx="1981080" cy="838080"/>
          </a:xfrm>
          <a:prstGeom prst="wedgeRoundRectCallout">
            <a:avLst>
              <a:gd name="adj1" fmla="val -10254"/>
              <a:gd name="adj2" fmla="val -15378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ta gathering should be recognized as highly important by MA, so “ongoing and priority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276720"/>
            <a:ext cx="2286000" cy="838080"/>
          </a:xfrm>
          <a:prstGeom prst="wedgeRoundRectCallout">
            <a:avLst>
              <a:gd name="adj1" fmla="val -91250"/>
              <a:gd name="adj2" fmla="val 655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to collect data for farming and diversification measures, accountancy systems do not collect enoug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257800"/>
            <a:ext cx="2286000" cy="838080"/>
          </a:xfrm>
          <a:prstGeom prst="wedgeRoundRectCallout">
            <a:avLst>
              <a:gd name="adj1" fmla="val 42569"/>
              <a:gd name="adj2" fmla="val 5871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deal with the time gaps (2-3 years) between the availability of data of Eurostat which is used for the baselin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qualitative assessment methodologies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6CC-FF15-4296-BA8B-86BD548D6297}" type="slidenum">
              <a:t>10</a:t>
            </a:fld>
          </a:p>
        </p:txBody>
      </p:sp>
    </p:spTree>
  </p:cSld>
  <p:transition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4800" y="3657600"/>
            <a:ext cx="2286000" cy="609480"/>
          </a:xfrm>
          <a:prstGeom prst="wedgeRoundRectCallout">
            <a:avLst>
              <a:gd name="adj1" fmla="val -57986"/>
              <a:gd name="adj2" fmla="val 361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what data should be coll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523880"/>
            <a:ext cx="2286000" cy="838440"/>
          </a:xfrm>
          <a:prstGeom prst="wedgeRoundRectCallout">
            <a:avLst>
              <a:gd name="adj1" fmla="val -95138"/>
              <a:gd name="adj2" fmla="val 7026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icators provided in the CMEF are mostly quantitative, while Leader is an approach to develop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00200"/>
            <a:ext cx="1981080" cy="1219320"/>
          </a:xfrm>
          <a:prstGeom prst="wedgeRoundRectCallout">
            <a:avLst>
              <a:gd name="adj1" fmla="val 115462"/>
              <a:gd name="adj2" fmla="val 11224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est challenges are time gap between the launch of the measures and the moment when impacts are visib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562720"/>
            <a:ext cx="2286000" cy="609480"/>
          </a:xfrm>
          <a:prstGeom prst="wedgeRoundRectCallout">
            <a:avLst>
              <a:gd name="adj1" fmla="val 65625"/>
              <a:gd name="adj2" fmla="val 5234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lack of previous experience in the evaluation of Lead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257800"/>
            <a:ext cx="2286000" cy="990720"/>
          </a:xfrm>
          <a:prstGeom prst="wedgeRoundRectCallout">
            <a:avLst>
              <a:gd name="adj1" fmla="val 75763"/>
              <a:gd name="adj2" fmla="val -10000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lementation period is rather short and the amount of money allocated is rather small. The impact will be evident over a longer period of tim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9880"/>
            <a:ext cx="2286000" cy="1143000"/>
          </a:xfrm>
          <a:prstGeom prst="wedgeRoundRectCallout">
            <a:avLst>
              <a:gd name="adj1" fmla="val 96736"/>
              <a:gd name="adj2" fmla="val 45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ment of Beneficiaries will be difficult since they are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BA26-2A64-4895-9ED0-B672B3F9E0DD}" type="slidenum">
              <a:t>11</a:t>
            </a:fld>
          </a:p>
        </p:txBody>
      </p:sp>
    </p:spTree>
  </p:cSld>
  <p:transition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38480" y="3352680"/>
            <a:ext cx="2286000" cy="1143000"/>
          </a:xfrm>
          <a:prstGeom prst="wedgeRoundRectCallout">
            <a:avLst>
              <a:gd name="adj1" fmla="val -46875"/>
              <a:gd name="adj2" fmla="val -876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overlapping of EQ (common and horizontal) results in confusion, risk to receive similar answers to many different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523880"/>
            <a:ext cx="2286000" cy="914400"/>
          </a:xfrm>
          <a:prstGeom prst="wedgeRoundRectCallout">
            <a:avLst>
              <a:gd name="adj1" fmla="val -60694"/>
              <a:gd name="adj2" fmla="val 486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in wording of EQ […]. with different words, the same things are asked. Evaluator will probably produce very similar answers for th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answers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562720"/>
            <a:ext cx="2286000" cy="685800"/>
          </a:xfrm>
          <a:prstGeom prst="wedgeRoundRectCallout">
            <a:avLst>
              <a:gd name="adj1" fmla="val -55763"/>
              <a:gd name="adj2" fmla="val -1724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ompare EU wide when local methods and definitions are applie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581280"/>
            <a:ext cx="1524240" cy="838440"/>
          </a:xfrm>
          <a:prstGeom prst="wedgeRoundRectCallout">
            <a:avLst>
              <a:gd name="adj1" fmla="val -42601"/>
              <a:gd name="adj2" fmla="val 16496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lack  of precise definition of terms and concepts used in their form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209680"/>
            <a:ext cx="1752480" cy="762120"/>
          </a:xfrm>
          <a:prstGeom prst="wedgeRoundRectCallout">
            <a:avLst>
              <a:gd name="adj1" fmla="val 27717"/>
              <a:gd name="adj2" fmla="val 1331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connection between Common indicators and CEQ: develop a matrix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495680"/>
            <a:ext cx="1828800" cy="609840"/>
          </a:xfrm>
          <a:prstGeom prst="wedgeRoundRectCallout">
            <a:avLst>
              <a:gd name="adj1" fmla="val 41407"/>
              <a:gd name="adj2" fmla="val -116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questions are more makro level than programme leve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638680"/>
            <a:ext cx="1828800" cy="685800"/>
          </a:xfrm>
          <a:prstGeom prst="wedgeRoundRectCallout">
            <a:avLst>
              <a:gd name="adj1" fmla="val 60851"/>
              <a:gd name="adj2" fmla="val -1002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 questions are “summaries” of other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7FE-103C-4330-B12A-59E18F4FED30}" type="slidenum">
              <a:t>12</a:t>
            </a:fld>
          </a:p>
        </p:txBody>
      </p:sp>
    </p:spTree>
  </p:cSld>
  <p:transition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FA7-2BB8-421E-978D-76D9E60AFE54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680-16AF-417A-B71C-92306F43017C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1E9-6E88-4F91-BB91-CE31872D640D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CA0-619F-44CB-A8FF-53971C7EEC52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539-C15B-4705-A906-AC2E9CB64E4F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01B-70C2-4149-9BB0-A00DADD68ABC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FEF-9551-473C-AF9D-4CD7C4D8BCD8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934-0C26-491F-9A9B-BF5DD06AD721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D5E-A0A5-4B8C-8E73-89E7DABF14A0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CCE-19C6-4C18-A90D-23508EEAB269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4800" y="4572000"/>
            <a:ext cx="2286000" cy="990720"/>
          </a:xfrm>
          <a:prstGeom prst="wedgeRoundRectCallout">
            <a:avLst>
              <a:gd name="adj1" fmla="val -29097"/>
              <a:gd name="adj2" fmla="val 9663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 RDP is at a very early stage of implementation (…)  with the exception of the measures continued from the past period (axis 2 mesur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523880"/>
            <a:ext cx="2286000" cy="1447920"/>
          </a:xfrm>
          <a:prstGeom prst="wedgeRoundRectCallout">
            <a:avLst>
              <a:gd name="adj1" fmla="val -86666"/>
              <a:gd name="adj2" fmla="val 61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clear focus on effects but the RDP has not yet provided a great number of effects. Rather, this evaluation should focus on how projects and processes are established and how they can be integrated in their contexts and in the programme struc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486400"/>
            <a:ext cx="2286000" cy="685800"/>
          </a:xfrm>
          <a:prstGeom prst="wedgeRoundRectCallout">
            <a:avLst>
              <a:gd name="adj1" fmla="val 17916"/>
              <a:gd name="adj2" fmla="val -30231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ubt about whether CMEF offers the right indicator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00200"/>
            <a:ext cx="2286000" cy="1295280"/>
          </a:xfrm>
          <a:prstGeom prst="wedgeRoundRectCallout">
            <a:avLst>
              <a:gd name="adj1" fmla="val -47083"/>
              <a:gd name="adj2" fmla="val 7916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to demonstrate the wider relevance and importance of impact assessment and evaluation to beneficiaries in order to encourage their participation and strengthen their inp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592-00F0-4CD4-B371-5EFFCA09CC74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3581280"/>
            <a:ext cx="2286000" cy="1143000"/>
          </a:xfrm>
          <a:prstGeom prst="wedgeRoundRectCallout">
            <a:avLst>
              <a:gd name="adj1" fmla="val -82361"/>
              <a:gd name="adj2" fmla="val 220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 which level should impacts be calculated? sectoral? or for the whole national economy? at the level of a holding or for the whole sec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209680"/>
            <a:ext cx="2286000" cy="838440"/>
          </a:xfrm>
          <a:prstGeom prst="wedgeRoundRectCallout">
            <a:avLst>
              <a:gd name="adj1" fmla="val 32499"/>
              <a:gd name="adj2" fmla="val 13446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aggregate impacts at programme level estimated by measurements at case study level or regional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800600"/>
            <a:ext cx="2286000" cy="609480"/>
          </a:xfrm>
          <a:prstGeom prst="wedgeRoundRectCallout">
            <a:avLst>
              <a:gd name="adj1" fmla="val 31458"/>
              <a:gd name="adj2" fmla="val -1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pass from case study to regional assessmen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562720"/>
            <a:ext cx="2286000" cy="685800"/>
          </a:xfrm>
          <a:prstGeom prst="wedgeRoundRectCallout">
            <a:avLst>
              <a:gd name="adj1" fmla="val -79444"/>
              <a:gd name="adj2" fmla="val -16898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RDP effects of other programme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1523880"/>
            <a:ext cx="1981080" cy="609840"/>
          </a:xfrm>
          <a:prstGeom prst="wedgeRoundRectCallout">
            <a:avLst>
              <a:gd name="adj1" fmla="val 15546"/>
              <a:gd name="adj2" fmla="val 2070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external impacts from impacts of RDP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057400"/>
            <a:ext cx="1904760" cy="1143000"/>
          </a:xfrm>
          <a:prstGeom prst="wedgeRoundRectCallout">
            <a:avLst>
              <a:gd name="adj1" fmla="val -70833"/>
              <a:gd name="adj2" fmla="val 649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net out deadweight, displacement and multiplier effects to obtain net additional value for economic indicator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638680"/>
            <a:ext cx="1828800" cy="685800"/>
          </a:xfrm>
          <a:prstGeom prst="wedgeRoundRectCallout">
            <a:avLst>
              <a:gd name="adj1" fmla="val 30990"/>
              <a:gd name="adj2" fmla="val -12060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measure the impact in the same year of the payme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047-84FE-42F1-B833-972EF310443A}" type="slidenum">
              <a:t>8</a:t>
            </a:fld>
          </a:p>
        </p:txBody>
      </p:sp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14800" y="4876920"/>
            <a:ext cx="2286000" cy="685800"/>
          </a:xfrm>
          <a:prstGeom prst="wedgeRoundRectCallout">
            <a:avLst>
              <a:gd name="adj1" fmla="val 40416"/>
              <a:gd name="adj2" fmla="val 1377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for support on how to use GIS for environmental indica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00200"/>
            <a:ext cx="2286000" cy="990720"/>
          </a:xfrm>
          <a:prstGeom prst="wedgeRoundRectCallout">
            <a:avLst>
              <a:gd name="adj1" fmla="val 80555"/>
              <a:gd name="adj2" fmla="val -512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gression analysis is used for 3 economic impact indicators and gives advantage to measure net ef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666880"/>
            <a:ext cx="2286000" cy="838440"/>
          </a:xfrm>
          <a:prstGeom prst="wedgeRoundRectCallout">
            <a:avLst>
              <a:gd name="adj1" fmla="val -75416"/>
              <a:gd name="adj2" fmla="val 79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hift and share” analysis is used for the measurement of the 3 economic impact indicato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105520"/>
            <a:ext cx="2286000" cy="838080"/>
          </a:xfrm>
          <a:prstGeom prst="wedgeRoundRectCallout">
            <a:avLst>
              <a:gd name="adj1" fmla="val 14791"/>
              <a:gd name="adj2" fmla="val -18257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IS analysis at very low scale of all indicators contributing to biodiversity could provide very useful additional information to impact indicator 4 .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A63-EAE2-479D-8C54-23D609CE40DC}" type="slidenum">
              <a:t>9</a:t>
            </a:fld>
          </a:p>
        </p:txBody>
      </p:sp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3:52Z</dcterms:modified>
  <cp:revision>169</cp:revision>
  <dc:subject/>
  <dc:title>Needs Assessment 2009</dc:title>
</cp:coreProperties>
</file>